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FEC-2766-4CD5-9563-8BA7FB68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951-47BC-4D50-9CAA-DCCAAD9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E5F-9446-4731-9405-6C9F5130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464-70D4-43F3-B29D-BFA0E4BC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F7E-1665-4D63-843F-73DEE876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216-12B7-4046-A3FC-FC41AC2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418-5548-4676-BFC6-C3C309A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3AC0-1E08-4D74-A6C0-6CBE130F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21E-2B46-47FD-8454-C13AB10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7D82-26A3-4FF7-BEEE-0039097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8711-CF0C-482D-AA60-03E889ED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F8F-FEFE-4088-B7EB-968F0779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D23B-1348-428C-869F-CF8897B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EDF-8276-4DEB-B548-248EAD4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1071-3D9F-441B-A9FE-CCEB0E4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45D-A588-4518-AA36-0D7EC165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F0E7-0605-4BFA-86DC-9F5C4A3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491-3DD9-4D7F-A24E-D900808A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459-A6AF-4FEA-9FF3-E0FA02D3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031-E57C-4B36-9CC3-70CDEDED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CEC-A95F-48A4-B53B-18EABD63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249-BE82-4425-8A7B-36CCBFE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2EC-0C80-4150-BFF5-517BA23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3AB-03C5-46AE-8B22-AFAC386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37C0-8C11-44BB-8A05-9F7D52C270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8A8-82FF-4DDA-8DD3-F91F450768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r material: any material that is branched or clustered and fill space between major components in the design.  It usually remains subordinate to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iller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2" name="Picture 3" descr="P1050262"/>
          <p:cNvPicPr/>
          <p:nvPr/>
        </p:nvPicPr>
        <p:blipFill>
          <a:blip r:embed="rId1"/>
          <a:stretch/>
        </p:blipFill>
        <p:spPr>
          <a:xfrm>
            <a:off x="457200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50282"/>
          <p:cNvPicPr/>
          <p:nvPr/>
        </p:nvPicPr>
        <p:blipFill>
          <a:blip r:embed="rId2"/>
          <a:stretch/>
        </p:blipFill>
        <p:spPr>
          <a:xfrm>
            <a:off x="4572000" y="3352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iller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5" name="Picture 4" descr="F:\photos\Floral Curriculum\plants\P1050547.JPG"/>
          <p:cNvPicPr/>
          <p:nvPr/>
        </p:nvPicPr>
        <p:blipFill>
          <a:blip r:embed="rId1"/>
          <a:stretch/>
        </p:blipFill>
        <p:spPr>
          <a:xfrm>
            <a:off x="44956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photos\Floral Curriculum\flowers\P1050756.JPG"/>
          <p:cNvPicPr/>
          <p:nvPr/>
        </p:nvPicPr>
        <p:blipFill>
          <a:blip r:embed="rId2"/>
          <a:stretch/>
        </p:blipFill>
        <p:spPr>
          <a:xfrm>
            <a:off x="3808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terial :  any flower with a spike or spike-like inflorescence with an elongated stem; elongated or linear shaped fol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9" name="Picture 3" descr="P1050287"/>
          <p:cNvPicPr/>
          <p:nvPr/>
        </p:nvPicPr>
        <p:blipFill>
          <a:blip r:embed="rId1"/>
          <a:stretch/>
        </p:blipFill>
        <p:spPr>
          <a:xfrm>
            <a:off x="46483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50304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oliage—linear shap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6" descr="F:\photos\Floral Curriculum\plants\P1050769.JPG"/>
          <p:cNvPicPr/>
          <p:nvPr/>
        </p:nvPicPr>
        <p:blipFill>
          <a:blip r:embed="rId1"/>
          <a:stretch/>
        </p:blipFill>
        <p:spPr>
          <a:xfrm>
            <a:off x="5105520" y="12193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material:  any material whose shape is its most distinctiv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3" descr="P1050548"/>
          <p:cNvPicPr/>
          <p:nvPr/>
        </p:nvPicPr>
        <p:blipFill>
          <a:blip r:embed="rId1"/>
          <a:stretch/>
        </p:blipFill>
        <p:spPr>
          <a:xfrm>
            <a:off x="4648320" y="533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1050560"/>
          <p:cNvPicPr/>
          <p:nvPr/>
        </p:nvPicPr>
        <p:blipFill>
          <a:blip r:embed="rId2"/>
          <a:stretch/>
        </p:blipFill>
        <p:spPr>
          <a:xfrm>
            <a:off x="160020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1050598"/>
          <p:cNvPicPr/>
          <p:nvPr/>
        </p:nvPicPr>
        <p:blipFill>
          <a:blip r:embed="rId3"/>
          <a:stretch/>
        </p:blipFill>
        <p:spPr>
          <a:xfrm>
            <a:off x="4419720" y="3505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1050281"/>
          <p:cNvPicPr/>
          <p:nvPr/>
        </p:nvPicPr>
        <p:blipFill>
          <a:blip r:embed="rId4"/>
          <a:stretch/>
        </p:blipFill>
        <p:spPr>
          <a:xfrm>
            <a:off x="838080" y="4419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material: a single, rounded material at the top of a stem used for adding volume to 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4" name="Picture 3" descr="P1050328"/>
          <p:cNvPicPr/>
          <p:nvPr/>
        </p:nvPicPr>
        <p:blipFill>
          <a:blip r:embed="rId1"/>
          <a:stretch/>
        </p:blipFill>
        <p:spPr>
          <a:xfrm>
            <a:off x="40384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1050289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1050270"/>
          <p:cNvPicPr/>
          <p:nvPr/>
        </p:nvPicPr>
        <p:blipFill>
          <a:blip r:embed="rId3"/>
          <a:stretch/>
        </p:blipFill>
        <p:spPr>
          <a:xfrm>
            <a:off x="304920" y="12193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1050255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0:52:52Z</dcterms:created>
  <dc:creator>Snake River</dc:creator>
  <dc:description/>
  <dc:language>en-US</dc:language>
  <cp:lastModifiedBy>PattJust</cp:lastModifiedBy>
  <dcterms:modified xsi:type="dcterms:W3CDTF">2009-06-14T01:07:47Z</dcterms:modified>
  <cp:revision>13</cp:revision>
  <dc:subject/>
  <dc:title>Flower &amp; Foliage Forms</dc:title>
</cp:coreProperties>
</file>