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9C6-7CD5-4A23-BDA8-5548BF29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EB0-FFAE-4EEF-A441-40E67E31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700-A733-4B34-BC88-C7E8C8AF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D4E-AA7B-4F81-B0B6-EC10186A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4EE6-3713-4F6A-897C-9301F9C6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007F-F991-4BC6-970B-6313F4FC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8D84-92E7-498D-8CAC-9E8D1AF3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B4F0-8EF6-497F-BD2D-E88BD70C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CB19-28E1-45BA-A37D-A150F473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F3AF-C2C0-4578-BA59-634EE2A2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AF64-9AF4-4FF3-877E-DD92D99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797-713F-4154-A799-D8A6553B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BB37-148E-446B-A2BE-AE8354F6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F4A-BEB1-45E9-AB48-7D6E9627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CEB6-F684-4439-8118-C2C0A781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C600-6A18-4F24-B0DF-36AF3F4D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653A-8EC9-4F09-82BC-05972BA4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698-C956-4707-8679-9C04C6B8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078-2158-4511-BF0F-5A90378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2E7-4F96-4E41-BD3C-4A68E9D8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A47-6419-4606-BD10-EC4F55A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0D1-3213-4DBD-AE31-55E41C3B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3D5-8222-45D5-8463-0D42554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125-165F-4828-BC82-722EC290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D91-4345-4ABF-B196-A7A93B768F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D657-6DD7-4DCF-A554-AC01AD26C8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er material: any material that is branched or clustered and fill space between major components in the design.  It usually remains subordinate to other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iller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2" name="Picture 3" descr="P1050262"/>
          <p:cNvPicPr/>
          <p:nvPr/>
        </p:nvPicPr>
        <p:blipFill>
          <a:blip r:embed="rId1"/>
          <a:stretch/>
        </p:blipFill>
        <p:spPr>
          <a:xfrm>
            <a:off x="4572000" y="609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P1050282"/>
          <p:cNvPicPr/>
          <p:nvPr/>
        </p:nvPicPr>
        <p:blipFill>
          <a:blip r:embed="rId2"/>
          <a:stretch/>
        </p:blipFill>
        <p:spPr>
          <a:xfrm>
            <a:off x="4572000" y="33526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iller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5" name="Picture 4" descr="F:\photos\Floral Curriculum\plants\P1050547.JPG"/>
          <p:cNvPicPr/>
          <p:nvPr/>
        </p:nvPicPr>
        <p:blipFill>
          <a:blip r:embed="rId1"/>
          <a:stretch/>
        </p:blipFill>
        <p:spPr>
          <a:xfrm>
            <a:off x="44956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photos\Floral Curriculum\flowers\P1050756.JPG"/>
          <p:cNvPicPr/>
          <p:nvPr/>
        </p:nvPicPr>
        <p:blipFill>
          <a:blip r:embed="rId2"/>
          <a:stretch/>
        </p:blipFill>
        <p:spPr>
          <a:xfrm>
            <a:off x="38088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material :  any flower with a spike or spike-like inflorescence with an elongated stem; elongated or linear shaped fol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99" name="Picture 3" descr="P1050287"/>
          <p:cNvPicPr/>
          <p:nvPr/>
        </p:nvPicPr>
        <p:blipFill>
          <a:blip r:embed="rId1"/>
          <a:stretch/>
        </p:blipFill>
        <p:spPr>
          <a:xfrm>
            <a:off x="4648320" y="4572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1050304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oliage—linear shap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2" name="Picture 6" descr="F:\photos\Floral Curriculum\plants\P1050769.JPG"/>
          <p:cNvPicPr/>
          <p:nvPr/>
        </p:nvPicPr>
        <p:blipFill>
          <a:blip r:embed="rId1"/>
          <a:stretch/>
        </p:blipFill>
        <p:spPr>
          <a:xfrm>
            <a:off x="5105520" y="121932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material:  any material whose shape is its most distinctive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6" name="Picture 3" descr="P1050548"/>
          <p:cNvPicPr/>
          <p:nvPr/>
        </p:nvPicPr>
        <p:blipFill>
          <a:blip r:embed="rId1"/>
          <a:stretch/>
        </p:blipFill>
        <p:spPr>
          <a:xfrm>
            <a:off x="4648320" y="533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1050560"/>
          <p:cNvPicPr/>
          <p:nvPr/>
        </p:nvPicPr>
        <p:blipFill>
          <a:blip r:embed="rId2"/>
          <a:stretch/>
        </p:blipFill>
        <p:spPr>
          <a:xfrm>
            <a:off x="1600200" y="1371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1050598"/>
          <p:cNvPicPr/>
          <p:nvPr/>
        </p:nvPicPr>
        <p:blipFill>
          <a:blip r:embed="rId3"/>
          <a:stretch/>
        </p:blipFill>
        <p:spPr>
          <a:xfrm>
            <a:off x="4419720" y="35053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1050281"/>
          <p:cNvPicPr/>
          <p:nvPr/>
        </p:nvPicPr>
        <p:blipFill>
          <a:blip r:embed="rId4"/>
          <a:stretch/>
        </p:blipFill>
        <p:spPr>
          <a:xfrm>
            <a:off x="838080" y="441972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material: a single, rounded material at the top of a stem used for adding volume to a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14" name="Picture 3" descr="P1050328"/>
          <p:cNvPicPr/>
          <p:nvPr/>
        </p:nvPicPr>
        <p:blipFill>
          <a:blip r:embed="rId1"/>
          <a:stretch/>
        </p:blipFill>
        <p:spPr>
          <a:xfrm>
            <a:off x="403848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P1050289"/>
          <p:cNvPicPr/>
          <p:nvPr/>
        </p:nvPicPr>
        <p:blipFill>
          <a:blip r:embed="rId2"/>
          <a:stretch/>
        </p:blipFill>
        <p:spPr>
          <a:xfrm>
            <a:off x="47242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1050270"/>
          <p:cNvPicPr/>
          <p:nvPr/>
        </p:nvPicPr>
        <p:blipFill>
          <a:blip r:embed="rId3"/>
          <a:stretch/>
        </p:blipFill>
        <p:spPr>
          <a:xfrm>
            <a:off x="304920" y="12193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1050255"/>
          <p:cNvPicPr/>
          <p:nvPr/>
        </p:nvPicPr>
        <p:blipFill>
          <a:blip r:embed="rId4"/>
          <a:stretch/>
        </p:blipFill>
        <p:spPr>
          <a:xfrm>
            <a:off x="609480" y="39625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20:52:52Z</dcterms:created>
  <dc:creator>Snake River</dc:creator>
  <dc:description/>
  <dc:language>en-US</dc:language>
  <cp:lastModifiedBy>PattJust</cp:lastModifiedBy>
  <dcterms:modified xsi:type="dcterms:W3CDTF">2009-06-14T01:07:47Z</dcterms:modified>
  <cp:revision>13</cp:revision>
  <dc:subject/>
  <dc:title>Flower &amp; Foliage Forms</dc:title>
</cp:coreProperties>
</file>