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82B-66F8-46D8-8E1E-B1F99476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8DE-E63D-46EF-BBF8-8D638F7A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DBB-45AF-4E08-BBA8-7D92F328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57E-7A79-44A1-9DD2-C8F7A3FF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60F4-0DBA-4DBF-887E-C80703E2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E47F-1EBD-416D-A2A9-F24EC1A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7B4-7491-4DBC-9CB5-FD3F3D3E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359-07C4-4282-AB22-E69E16EC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F5F9-EC6D-4698-8EC3-72948AF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ECD-040A-49D0-9CF9-6BDF8E97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D24D-1749-4293-BCD1-1D18774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7C5-A3CD-4C01-922D-21B2B7F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83ED-C4C9-4428-B5A8-CA4AF43D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E428-6B64-47FE-81B4-F3F6F38F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9EB-A550-45E8-B1BD-4F21B7AB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C063-ECDE-4AD6-A51F-DF0EB4F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6359-726B-4395-A291-71EF3851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C77-0673-4B4D-B297-4BF552B5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3C2-0AF5-4F13-BFDC-B6D5A4D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406-BEA0-4AF0-99FB-0F2C0BB2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835-610E-44C0-9C95-1C600D2A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648-62B5-4E37-99DB-E1A9A16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EF7-F66B-4CD7-A038-3BC3617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050-80D7-45A7-A7C0-5D5CD7E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906-B901-47AD-8A55-608FB89C8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A597-2914-49BF-85AF-6BACC5F73C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er material: any material that is branched or clustered and fill space between major components in the design.  It usually remains subordinate to other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er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iller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2" name="Picture 3" descr="P1050262"/>
          <p:cNvPicPr/>
          <p:nvPr/>
        </p:nvPicPr>
        <p:blipFill>
          <a:blip r:embed="rId1"/>
          <a:stretch/>
        </p:blipFill>
        <p:spPr>
          <a:xfrm>
            <a:off x="4572000" y="609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P1050282"/>
          <p:cNvPicPr/>
          <p:nvPr/>
        </p:nvPicPr>
        <p:blipFill>
          <a:blip r:embed="rId2"/>
          <a:stretch/>
        </p:blipFill>
        <p:spPr>
          <a:xfrm>
            <a:off x="4572000" y="33526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iller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25" name="Picture 4" descr="F:\photos\Floral Curriculum\plants\P1050547.JPG"/>
          <p:cNvPicPr/>
          <p:nvPr/>
        </p:nvPicPr>
        <p:blipFill>
          <a:blip r:embed="rId1"/>
          <a:stretch/>
        </p:blipFill>
        <p:spPr>
          <a:xfrm>
            <a:off x="44956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photos\Floral Curriculum\flowers\P1050756.JPG"/>
          <p:cNvPicPr/>
          <p:nvPr/>
        </p:nvPicPr>
        <p:blipFill>
          <a:blip r:embed="rId2"/>
          <a:stretch/>
        </p:blipFill>
        <p:spPr>
          <a:xfrm>
            <a:off x="38088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material :  any flower with a spike or spike-like inflorescence with an elongated stem; elongated or linear shaped fol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9" name="Picture 3" descr="P1050287"/>
          <p:cNvPicPr/>
          <p:nvPr/>
        </p:nvPicPr>
        <p:blipFill>
          <a:blip r:embed="rId1"/>
          <a:stretch/>
        </p:blipFill>
        <p:spPr>
          <a:xfrm>
            <a:off x="4648320" y="45720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50304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Line foliage—linear shap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6" descr="F:\photos\Floral Curriculum\plants\P1050769.JPG"/>
          <p:cNvPicPr/>
          <p:nvPr/>
        </p:nvPicPr>
        <p:blipFill>
          <a:blip r:embed="rId1"/>
          <a:stretch/>
        </p:blipFill>
        <p:spPr>
          <a:xfrm>
            <a:off x="5105520" y="121932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material:  any material whose shape is its most distinctive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3" descr="P1050548"/>
          <p:cNvPicPr/>
          <p:nvPr/>
        </p:nvPicPr>
        <p:blipFill>
          <a:blip r:embed="rId1"/>
          <a:stretch/>
        </p:blipFill>
        <p:spPr>
          <a:xfrm>
            <a:off x="4648320" y="5335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1050560"/>
          <p:cNvPicPr/>
          <p:nvPr/>
        </p:nvPicPr>
        <p:blipFill>
          <a:blip r:embed="rId2"/>
          <a:stretch/>
        </p:blipFill>
        <p:spPr>
          <a:xfrm>
            <a:off x="160020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1050598"/>
          <p:cNvPicPr/>
          <p:nvPr/>
        </p:nvPicPr>
        <p:blipFill>
          <a:blip r:embed="rId3"/>
          <a:stretch/>
        </p:blipFill>
        <p:spPr>
          <a:xfrm>
            <a:off x="4419720" y="3505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1050281"/>
          <p:cNvPicPr/>
          <p:nvPr/>
        </p:nvPicPr>
        <p:blipFill>
          <a:blip r:embed="rId4"/>
          <a:stretch/>
        </p:blipFill>
        <p:spPr>
          <a:xfrm>
            <a:off x="838080" y="441972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Form foliage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Flower &amp; Foliage Form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material: a single, rounded material at the top of a stem used for adding volume to a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lo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ss foli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Mass flowers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14" name="Picture 3" descr="P1050328"/>
          <p:cNvPicPr/>
          <p:nvPr/>
        </p:nvPicPr>
        <p:blipFill>
          <a:blip r:embed="rId1"/>
          <a:stretch/>
        </p:blipFill>
        <p:spPr>
          <a:xfrm>
            <a:off x="40384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1050289"/>
          <p:cNvPicPr/>
          <p:nvPr/>
        </p:nvPicPr>
        <p:blipFill>
          <a:blip r:embed="rId2"/>
          <a:stretch/>
        </p:blipFill>
        <p:spPr>
          <a:xfrm>
            <a:off x="4724280" y="35812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1050270"/>
          <p:cNvPicPr/>
          <p:nvPr/>
        </p:nvPicPr>
        <p:blipFill>
          <a:blip r:embed="rId3"/>
          <a:stretch/>
        </p:blipFill>
        <p:spPr>
          <a:xfrm>
            <a:off x="304920" y="12193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1050255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20:52:52Z</dcterms:created>
  <dc:creator>Snake River</dc:creator>
  <dc:description/>
  <dc:language>en-US</dc:language>
  <cp:lastModifiedBy>PattJust</cp:lastModifiedBy>
  <dcterms:modified xsi:type="dcterms:W3CDTF">2009-06-14T01:07:47Z</dcterms:modified>
  <cp:revision>13</cp:revision>
  <dc:subject/>
  <dc:title>Flower &amp; Foliage Forms</dc:title>
</cp:coreProperties>
</file>