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781-4439-4111-B02E-52CD3930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gleseed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68C2-56B6-40EF-8959-3BF1553D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8285-4DF3-4D1F-9569-D70A4FEDB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D199-0AD3-4168-B7BB-B17AC5D9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1A58-F953-4B79-BCE5-D3D1FFEC6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ssomswa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650A-04C1-4F73-A4E7-F7756E4F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320-53B2-41D9-AFBD-E3F0EC56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7FC-D1D9-423A-B0F9-8836D1BF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C177-2F64-4998-A171-6B73C816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ts.babycenter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7D0-ECD2-4279-8CBF-78CCDC95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.wikipeid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2B6-6D53-4BC1-B7A2-9661770C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vefloris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748-E38F-4390-A851-C86582EC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ridat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EDE1-3B32-44EF-BD70-2A2661B8C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meplants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A92-61B2-4580-9165-DD1CC1DC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884E-B109-4ECD-A127-BF18E7A22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067E-470F-40A5-92C5-8C6DF0F3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hollergarden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3AEE-21C5-4C35-8CA2-46204A70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7EA-5B6F-40FE-9BD5-54CEF476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pages.ihug.co.n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B4CA-91DF-427E-AF9E-BF3C94F0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852-07B1-4492-BFCE-98855C60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0AE-12DC-4A30-BCC5-911CE199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5AA9-74E7-4597-AF15-387A582B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ckphoto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C9F-FDD6-4C0A-9A30-0FF4A515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B46B-7E78-4220-A0B4-D2197ED3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patensonli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636E-3417-4A55-8DEE-B202DD59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kwaphotograph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C30D-BADF-4C2C-838B-6122963D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E6F-72B8-4492-8045-9590F353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D323-5749-40B7-9173-B6F396E5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oftheweek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2D4-7938-49CC-AEE0-2C9AB428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tosearch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1D98-0D1B-4C99-AF7A-2E647439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.comcast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3F6-13CB-4165-9EB6-EE65F5394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.comcast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2CEC-0108-47E2-A0EB-03A8880B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C63-90C3-4822-869C-07586CE1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togrowbulb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2FED-91E5-41BA-8B56-38311652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CB95-CE94-481D-B680-9438DAAB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eal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0094-CCE7-4FEA-AC59-5E9BD805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tropical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3DD-F266-47EA-BD9F-A0C3DC87C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tropical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AD0C-E03E-4E81-9A7F-8C850A82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oftheweek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83E-7FA5-4498-8221-D0A8D230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5CD-232B-4858-AA12-837D2C2A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o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0BF-AB06-4A84-8D76-3AED895E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1FF-DE81-4522-8F89-1127338B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266-5B7B-40BB-BFB2-1D047741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416-F512-4182-8716-DDCD8314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answer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3F8-535F-4D46-AA49-37CF6875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answer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45B-8F42-458B-AC45-28191303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D90-5581-47EE-95CC-435FDD8C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ofgardens.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563-FA8C-4016-9246-80D75C00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Allison Touch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0FE1-14F3-4389-B04F-333337BF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D5D7-7CC6-4EF5-91F9-492BD224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B67-C62B-4BCC-BD53-92CE82B7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ourtesy of 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BE58-A8EA-4D73-88AB-CAF36165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29BA-020C-4434-ACC1-E51286AD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load.wikim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41E-1EC5-45D1-9D2B-310DFC4BB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nda Pa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37AC-297C-4F6E-BA75-B1E9C371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vesgarde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4D18-EE0F-490B-AA57-3A8869A4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A06-4575-4CDB-A361-D3B1881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18A-3D87-4F0F-8D8B-91E17307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575-48F3-48E7-93A8-DF7BBA62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62E-654F-40B2-9C59-ED5C9B61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A67-723B-45D2-B343-2478CE1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37E-81E3-46D5-87BB-AF9A2B2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F05-7E85-4041-9988-A89A0659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87B-A0C7-429F-A5D0-EBB36BDF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87A-9729-4405-895F-A20027B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39A-C800-46E3-9683-66CE5F7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4F2-0104-4D07-A61C-ACF8C19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175-E202-425E-AED9-A5F3FCC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FE7B-CFA4-4BCD-B291-A67F75EE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culture Plan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-1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www.jungleseeds.com/images/Gerbera.jpg"/>
          <p:cNvPicPr/>
          <p:nvPr/>
        </p:nvPicPr>
        <p:blipFill>
          <a:blip r:embed="rId1"/>
          <a:stretch/>
        </p:blipFill>
        <p:spPr>
          <a:xfrm>
            <a:off x="3200400" y="1828800"/>
            <a:ext cx="296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Prin &amp; El\P1050929.JPG"/>
          <p:cNvPicPr/>
          <p:nvPr/>
        </p:nvPicPr>
        <p:blipFill>
          <a:blip r:embed="rId1"/>
          <a:stretch/>
        </p:blipFill>
        <p:spPr>
          <a:xfrm>
            <a:off x="1447920" y="17524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ansvaal daisy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:\High School\Brenda's Curriculum\Plants\Plants 2\MVC-030S.JPG"/>
          <p:cNvPicPr/>
          <p:nvPr/>
        </p:nvPicPr>
        <p:blipFill>
          <a:blip r:embed="rId1"/>
          <a:stretch/>
        </p:blipFill>
        <p:spPr>
          <a:xfrm>
            <a:off x="1523880" y="186696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nura aurantia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Sarmentos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rple Passion”, Velvet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orange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fuzzy textured leaves, purple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4-3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moist soil;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poiso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nura aurantia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Sarmentos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rple Passion”, Velvet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upload.wikimedia.org/wikipedia/commons/thumb/8/80/Gynura_aurantiaca.jpg/233px-Gynura_aurantiaca.jpg"/>
          <p:cNvPicPr/>
          <p:nvPr/>
        </p:nvPicPr>
        <p:blipFill>
          <a:blip r:embed="rId1"/>
          <a:stretch/>
        </p:blipFill>
        <p:spPr>
          <a:xfrm>
            <a:off x="2209680" y="2057400"/>
            <a:ext cx="46483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ovent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 or 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, don’t over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early summer to late Autumn bloom; excellent background in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aby's breath"/>
          <p:cNvPicPr/>
          <p:nvPr/>
        </p:nvPicPr>
        <p:blipFill>
          <a:blip r:embed="rId1"/>
          <a:stretch/>
        </p:blipFill>
        <p:spPr>
          <a:xfrm>
            <a:off x="1523880" y="1981080"/>
            <a:ext cx="6188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aby's breath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6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ypsophila eleg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y’s Bre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F:\photos\Floral Curriculum\flowers\P1050337.JPG"/>
          <p:cNvPicPr/>
          <p:nvPr/>
        </p:nvPicPr>
        <p:blipFill>
          <a:blip r:embed="rId1"/>
          <a:stretch/>
        </p:blipFill>
        <p:spPr>
          <a:xfrm>
            <a:off x="1905120" y="2209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ape jasmine, gandhar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, cream, 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shrub w/ waxy white flw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;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-8’ tall, flower 3-5”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ensitive to temp; moist atmosphere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 flowers; native to tropics and subtrop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common i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, white, yellow, or cre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3 or 5 lobed green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limbing vines; house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0-40’ if allowed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cling to upright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assets.babycenter.com/i/m/hchw/english_ivy_hchw.jpg"/>
          <p:cNvPicPr/>
          <p:nvPr/>
        </p:nvPicPr>
        <p:blipFill>
          <a:blip r:embed="rId1"/>
          <a:stretch/>
        </p:blipFill>
        <p:spPr>
          <a:xfrm>
            <a:off x="1066680" y="1828800"/>
            <a:ext cx="29545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english ivy"/>
          <p:cNvPicPr/>
          <p:nvPr/>
        </p:nvPicPr>
        <p:blipFill>
          <a:blip r:embed="rId1"/>
          <a:stretch/>
        </p:blipFill>
        <p:spPr>
          <a:xfrm>
            <a:off x="2209680" y="457200"/>
            <a:ext cx="4648320" cy="619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4"/>
          <p:cNvPicPr/>
          <p:nvPr/>
        </p:nvPicPr>
        <p:blipFill>
          <a:blip r:embed="rId1"/>
          <a:stretch/>
        </p:blipFill>
        <p:spPr>
          <a:xfrm>
            <a:off x="2286000" y="609480"/>
            <a:ext cx="4390920" cy="586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dra heli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parasol plant; umbrell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 with yellow va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palmat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tropical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-4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low light, mo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http://www.cloveflorist.com/store/images/flowerpics/111205/plants/PL01101LG.jpg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warf scheffleras"/>
          <p:cNvPicPr/>
          <p:nvPr/>
        </p:nvPicPr>
        <p:blipFill>
          <a:blip r:embed="rId1"/>
          <a:stretch/>
        </p:blipFill>
        <p:spPr>
          <a:xfrm>
            <a:off x="45720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7"/>
          <p:cNvPicPr/>
          <p:nvPr/>
        </p:nvPicPr>
        <p:blipFill>
          <a:blip r:embed="rId1"/>
          <a:stretch/>
        </p:blipFill>
        <p:spPr>
          <a:xfrm>
            <a:off x="533520" y="1752480"/>
            <a:ext cx="3593880" cy="4800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ptapleurum arboricola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warf Schefflera, Dwarf Octopus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ance shaped foli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0-40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lowers last only a day; multiply quick; used in Chinese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findmeplants.co.uk/photos/hemerocallis_greenflutter.jpg"/>
          <p:cNvPicPr/>
          <p:nvPr/>
        </p:nvPicPr>
        <p:blipFill>
          <a:blip r:embed="rId1"/>
          <a:stretch/>
        </p:blipFill>
        <p:spPr>
          <a:xfrm>
            <a:off x="2209680" y="1905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upload.wikimedia.org/wikipedia/commons/0/0e/Gardenia_jasminoides_cv1.jpg"/>
          <p:cNvPicPr/>
          <p:nvPr/>
        </p:nvPicPr>
        <p:blipFill>
          <a:blip r:embed="rId1"/>
          <a:stretch/>
        </p:blipFill>
        <p:spPr>
          <a:xfrm>
            <a:off x="2743200" y="1828800"/>
            <a:ext cx="3456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aylily"/>
          <p:cNvPicPr/>
          <p:nvPr/>
        </p:nvPicPr>
        <p:blipFill>
          <a:blip r:embed="rId1"/>
          <a:stretch/>
        </p:blipFill>
        <p:spPr>
          <a:xfrm>
            <a:off x="2209680" y="22860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erocallis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appl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red, orange, pink, salmon, white, &amp; multicolored var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iny, glossy 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bul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un to partial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; popular around the holiday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herry Nymph Large Double Amaryllis"/>
          <p:cNvPicPr/>
          <p:nvPr/>
        </p:nvPicPr>
        <p:blipFill>
          <a:blip r:embed="rId1"/>
          <a:stretch/>
        </p:blipFill>
        <p:spPr>
          <a:xfrm>
            <a:off x="2209680" y="2133720"/>
            <a:ext cx="3124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maryllis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11"/>
          <p:cNvPicPr/>
          <p:nvPr/>
        </p:nvPicPr>
        <p:blipFill>
          <a:blip r:embed="rId1"/>
          <a:stretch/>
        </p:blipFill>
        <p:spPr>
          <a:xfrm>
            <a:off x="609480" y="1752480"/>
            <a:ext cx="381960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ppeastrum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ry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from blue to green 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large clumps of green foliage and spikes of lily shaped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5-22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iltered sunlight; drie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ttp://homepages.ihug.co.nz/~rossruth/Hosta%20undualta%20albo%20marginata%20'Thomas%20Hogg'.jpg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osta 2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osta 4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osta 3"/>
          <p:cNvPicPr/>
          <p:nvPr/>
        </p:nvPicPr>
        <p:blipFill>
          <a:blip r:embed="rId1"/>
          <a:stretch/>
        </p:blipFill>
        <p:spPr>
          <a:xfrm>
            <a:off x="228600" y="1143000"/>
            <a:ext cx="4133880" cy="551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osta"/>
          <p:cNvPicPr/>
          <p:nvPr/>
        </p:nvPicPr>
        <p:blipFill>
          <a:blip r:embed="rId2"/>
          <a:stretch/>
        </p:blipFill>
        <p:spPr>
          <a:xfrm>
            <a:off x="4952880" y="1295280"/>
            <a:ext cx="4002120" cy="533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sta undul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ain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gardenia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2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ardenia jasmino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Fortuniana’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porcelain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waxy leaves and wax-like clusters of flowers; flower in the cluster has a star-shaped crown in it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5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don’t over water; filtered sunlight; dry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fra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http://upload.wikimedia.org/wikipedia/commons/thumb/e/e5/Hoya_carnosa0.jpg/240px-Hoya_carnosa0.jpg"/>
          <p:cNvPicPr/>
          <p:nvPr/>
        </p:nvPicPr>
        <p:blipFill>
          <a:blip r:embed="rId1"/>
          <a:stretch/>
        </p:blipFill>
        <p:spPr>
          <a:xfrm>
            <a:off x="1371600" y="21337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wax plant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ya carnos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 Roman hyacinth, french hyac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blue, white, yellow, pink, 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iny, medium green leaves which appear slightly folded; blooms are trumpet-shaped and arranged tightly on leafless s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bu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2-1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low to medium high light; watered tho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http://www.istockphoto.com/file_thumbview_approve/6268362/2/istockphoto_6268362-hyacinth.jpg"/>
          <p:cNvPicPr/>
          <p:nvPr/>
        </p:nvPicPr>
        <p:blipFill>
          <a:blip r:embed="rId1"/>
          <a:stretch/>
        </p:blipFill>
        <p:spPr>
          <a:xfrm>
            <a:off x="2743200" y="2209680"/>
            <a:ext cx="28195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acinthus oriental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aci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:\photos\Floral Curriculum\flowers\P1050752.JPG"/>
          <p:cNvPicPr/>
          <p:nvPr/>
        </p:nvPicPr>
        <p:blipFill>
          <a:blip r:embed="rId1"/>
          <a:stretch/>
        </p:blipFill>
        <p:spPr>
          <a:xfrm>
            <a:off x="43434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acid soil blooms-blue, in alkaline soil-pink flowers, neutral-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medium to dark green leav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flowering houseplant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abundance of water; partial to full sun; very rich s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http://www.akwaphotographs.com/images/Hydrangea%20blue-big.jp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ydrangea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drangea macrophyl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(Florist’s) Hydrang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F:\photos\Floral Curriculum\flowers\P1050255.JPG"/>
          <p:cNvPicPr/>
          <p:nvPr/>
        </p:nvPicPr>
        <p:blipFill>
          <a:blip r:embed="rId1"/>
          <a:stretch/>
        </p:blipFill>
        <p:spPr>
          <a:xfrm>
            <a:off x="1752480" y="17715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g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showy, irregular funnel-shaped flowers; sword- shaped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annu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36-48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180 different species; native to southern Africa and Mediterrane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waxy green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annual bedding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8-12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s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very sh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http://www.fotosearch.com/comp/DSN/DSN020/impatiens_~1802745.jpg"/>
          <p:cNvPicPr/>
          <p:nvPr/>
        </p:nvPicPr>
        <p:blipFill>
          <a:blip r:embed="rId1"/>
          <a:stretch/>
        </p:blipFill>
        <p:spPr>
          <a:xfrm>
            <a:off x="2057400" y="1981080"/>
            <a:ext cx="4997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patients"/>
          <p:cNvPicPr/>
          <p:nvPr/>
        </p:nvPicPr>
        <p:blipFill>
          <a:blip r:embed="rId1"/>
          <a:stretch/>
        </p:blipFill>
        <p:spPr>
          <a:xfrm>
            <a:off x="1828800" y="17524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atiens hybr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ti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Blues to whites to reds almost any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Big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4-6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Can grow in Desert, swamps, cold, an d Temperate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https://home.comcast.net/~j.komatsu/images/set1/iris2.jpg"/>
          <p:cNvPicPr/>
          <p:nvPr/>
        </p:nvPicPr>
        <p:blipFill>
          <a:blip r:embed="rId1"/>
          <a:stretch/>
        </p:blipFill>
        <p:spPr>
          <a:xfrm>
            <a:off x="2057400" y="1828800"/>
            <a:ext cx="3571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rple blue beard top"/>
          <p:cNvPicPr/>
          <p:nvPr/>
        </p:nvPicPr>
        <p:blipFill>
          <a:blip r:embed="rId1"/>
          <a:stretch/>
        </p:blipFill>
        <p:spPr>
          <a:xfrm>
            <a:off x="1828800" y="2057400"/>
            <a:ext cx="5202360" cy="3902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6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germanica florenti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 (Bearded)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Grows up to three feet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native to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ttp://www.easytogrowbulbs.com/ProductImages/iris/Dutch_Iris_Telstar.jpg"/>
          <p:cNvPicPr/>
          <p:nvPr/>
        </p:nvPicPr>
        <p:blipFill>
          <a:blip r:embed="rId1"/>
          <a:stretch/>
        </p:blipFill>
        <p:spPr>
          <a:xfrm>
            <a:off x="1143000" y="2057400"/>
            <a:ext cx="6553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blue iris line"/>
          <p:cNvPicPr/>
          <p:nvPr/>
        </p:nvPicPr>
        <p:blipFill>
          <a:blip r:embed="rId1"/>
          <a:stretch/>
        </p:blipFill>
        <p:spPr>
          <a:xfrm>
            <a:off x="228600" y="1655640"/>
            <a:ext cx="3902040" cy="520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7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ris x xiphi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I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:\photos\Floral Curriculum\flowers\P1050725.JPG"/>
          <p:cNvPicPr/>
          <p:nvPr/>
        </p:nvPicPr>
        <p:blipFill>
          <a:blip r:embed="rId1"/>
          <a:stretch/>
        </p:blipFill>
        <p:spPr>
          <a:xfrm>
            <a:off x="457200" y="182880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:\photos\Floral Curriculum\plants\P1050575.JPG"/>
          <p:cNvPicPr/>
          <p:nvPr/>
        </p:nvPicPr>
        <p:blipFill>
          <a:blip r:embed="rId2"/>
          <a:stretch/>
        </p:blipFill>
        <p:spPr>
          <a:xfrm>
            <a:off x="4343400" y="22860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www.boreal.org/~dasche/birchgrove/fundraising/bulbs/glads.jpg"/>
          <p:cNvPicPr/>
          <p:nvPr/>
        </p:nvPicPr>
        <p:blipFill>
          <a:blip r:embed="rId1"/>
          <a:stretch/>
        </p:blipFill>
        <p:spPr>
          <a:xfrm>
            <a:off x="2895480" y="1905120"/>
            <a:ext cx="3810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Justicia brandegean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rimp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pink,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4-3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8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Justicia brandegean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rimp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ttp://www.toptropicals.com/pics/garden/m1/Podarki2/Beloperone_guttata134608klara.jpg"/>
          <p:cNvPicPr/>
          <p:nvPr/>
        </p:nvPicPr>
        <p:blipFill>
          <a:blip r:embed="rId1"/>
          <a:stretch/>
        </p:blipFill>
        <p:spPr>
          <a:xfrm>
            <a:off x="2514600" y="1828800"/>
            <a:ext cx="367668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succulent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6-1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ly water when soil feels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ttp://upload.wikimedia.org/wikipedia/commons/b/b7/2007-03-19Kalanchoe_blossfeldiana02.jpg"/>
          <p:cNvPicPr/>
          <p:nvPr/>
        </p:nvPicPr>
        <p:blipFill>
          <a:blip r:embed="rId1"/>
          <a:stretch/>
        </p:blipFill>
        <p:spPr>
          <a:xfrm>
            <a:off x="2590920" y="2131920"/>
            <a:ext cx="42289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kalanchoe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9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alanchoe x blossfeldia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lanch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:\High School\Brenda's Curriculum\Plants\Plants 1\MVC-010S.JPG"/>
          <p:cNvPicPr/>
          <p:nvPr/>
        </p:nvPicPr>
        <p:blipFill>
          <a:blip r:embed="rId1"/>
          <a:stretch/>
        </p:blipFill>
        <p:spPr>
          <a:xfrm>
            <a:off x="1879560" y="1771560"/>
            <a:ext cx="5664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round-headed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blazing S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-4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Other:  native wild flower of North Dak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used for medicine and food for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upload.wikimedia.org/wikipedia/commons/thumb/d/d4/Liatris_spicata_Purple.jpg/200px-Liatris_spicata_Purple.jpg"/>
          <p:cNvPicPr/>
          <p:nvPr/>
        </p:nvPicPr>
        <p:blipFill>
          <a:blip r:embed="rId1"/>
          <a:stretch/>
        </p:blipFill>
        <p:spPr>
          <a:xfrm>
            <a:off x="2666880" y="1981080"/>
            <a:ext cx="3276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liatris"/>
          <p:cNvPicPr/>
          <p:nvPr/>
        </p:nvPicPr>
        <p:blipFill>
          <a:blip r:embed="rId1"/>
          <a:stretch/>
        </p:blipFill>
        <p:spPr>
          <a:xfrm>
            <a:off x="266688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0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t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:\photos\Floral Curriculum\flowers\P1050741.JPG"/>
          <p:cNvPicPr/>
          <p:nvPr/>
        </p:nvPicPr>
        <p:blipFill>
          <a:blip r:embed="rId1"/>
          <a:stretch/>
        </p:blipFill>
        <p:spPr>
          <a:xfrm>
            <a:off x="2781360" y="175248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:\photos\Floral Curriculum\flowers\P1050745.JPG"/>
          <p:cNvPicPr/>
          <p:nvPr/>
        </p:nvPicPr>
        <p:blipFill>
          <a:blip r:embed="rId1"/>
          <a:stretch/>
        </p:blipFill>
        <p:spPr>
          <a:xfrm>
            <a:off x="2838600" y="17524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longiflor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mpet (Easter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petals are a trumpet like formation that are long &amp; white; leaves are green slender and layer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2-3’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1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longiflor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mpet (Easter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http://content.answers.com/main/content/wp/en-commons/thumb/0/0a/240px-Lilium_longiflorum.jpg"/>
          <p:cNvPicPr/>
          <p:nvPr/>
        </p:nvPicPr>
        <p:blipFill>
          <a:blip r:embed="rId1"/>
          <a:stretch/>
        </p:blipFill>
        <p:spPr>
          <a:xfrm>
            <a:off x="2362320" y="1905120"/>
            <a:ext cx="33526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petals are long and have a variety of colors with some colored spots; leaves are green, narrow, long, &amp; layered upwar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water r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  hybrid--crossed pollinated w/other l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http://www.worldofgardens.ca/images/Pict0042_AS_CORRIDA_01.JPG"/>
          <p:cNvPicPr/>
          <p:nvPr/>
        </p:nvPicPr>
        <p:blipFill>
          <a:blip r:embed="rId1"/>
          <a:stretch/>
        </p:blipFill>
        <p:spPr>
          <a:xfrm>
            <a:off x="1504800" y="1828800"/>
            <a:ext cx="3467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asiatic lily"/>
          <p:cNvPicPr/>
          <p:nvPr/>
        </p:nvPicPr>
        <p:blipFill>
          <a:blip r:embed="rId1"/>
          <a:stretch/>
        </p:blipFill>
        <p:spPr>
          <a:xfrm>
            <a:off x="1219320" y="177156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2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lium x hybrid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 (Garden) L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:\photos\Floral Curriculum\flowers\P1050760.JPG"/>
          <p:cNvPicPr/>
          <p:nvPr/>
        </p:nvPicPr>
        <p:blipFill>
          <a:blip r:embed="rId1"/>
          <a:stretch/>
        </p:blipFill>
        <p:spPr>
          <a:xfrm>
            <a:off x="2362320" y="2057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golden, lemon-yellow, white, cream, salmon-pink purple, &amp;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eaf structure is oblong &amp; deeply w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perennial; cut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averag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mall flowers used in dried arr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http://upload.wikimedia.org/wikipedia/commons/a/af/Limonium_sinuatum_01_ies.jpg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3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imonium sinuatu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F:\photos\Floral Curriculum\flowers\P1050310.JPG"/>
          <p:cNvPicPr/>
          <p:nvPr/>
        </p:nvPicPr>
        <p:blipFill>
          <a:blip r:embed="rId1"/>
          <a:stretch/>
        </p:blipFill>
        <p:spPr>
          <a:xfrm>
            <a:off x="1752480" y="182880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 white, lilac, pink, and vio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 leaf like structure is low, rounded, compact habit with lance shaped grayish green leaves; ball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self seeding an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under 6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 full sun; averag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3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ladio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ortulan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v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 Gladio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:\High School\Brenda's Curriculum\Plants\Plants 2\MVC-029S.JPG"/>
          <p:cNvPicPr/>
          <p:nvPr/>
        </p:nvPicPr>
        <p:blipFill>
          <a:blip r:embed="rId1"/>
          <a:stretch/>
        </p:blipFill>
        <p:spPr>
          <a:xfrm>
            <a:off x="3048120" y="2031840"/>
            <a:ext cx="3047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ttp://upload.wikimedia.org/wikipedia/commons/8/8b/Alyssum_(Lobularia_maritima).jpg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4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eet Aly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F:\Plant ID\P1060384.JPG"/>
          <p:cNvPicPr/>
          <p:nvPr/>
        </p:nvPicPr>
        <p:blipFill>
          <a:blip r:embed="rId1"/>
          <a:stretch/>
        </p:blipFill>
        <p:spPr>
          <a:xfrm>
            <a:off x="2286000" y="19051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4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rbera jameson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vaal 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mes: gerbera daisy; g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v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 dark green leaves with                                              tall 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plant:  cut flower; flowering hous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:  18-24”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requirements: full sun light; moist Acid well-drained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15:15Z</dcterms:created>
  <dc:creator>Snake River</dc:creator>
  <dc:description/>
  <dc:language>en-US</dc:language>
  <cp:lastModifiedBy>Debra Rumford</cp:lastModifiedBy>
  <dcterms:modified xsi:type="dcterms:W3CDTF">2015-09-03T22:17:56Z</dcterms:modified>
  <cp:revision>103</cp:revision>
  <dc:subject/>
  <dc:title>ID</dc:title>
</cp:coreProperties>
</file>