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666-322F-4F40-8F29-A2B7B56C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gleseed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A544-F08B-4348-B8E2-D811D38C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B46-119C-478B-9006-DFD70014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69A-F9DA-40ED-B2B3-5781D949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ED1-5E02-4090-9F8E-D8919A2E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ssomswa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F75-379F-4B88-A8E6-08AAA284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9E3-0F4F-48C8-A55C-57886FDB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519E-3D9F-4F2B-AFF7-BE0CB8C3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771-346A-4615-8E98-B21F4747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ts.babycenter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F74-864B-4524-A762-05F4D978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.wikipeid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DFA1-B657-4C34-BE11-7C246BDD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vefloris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E50-5776-4FBC-A979-1B58F098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ridat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6BD-FB41-47DD-8B61-FE1F1397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meplants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95BB-EF36-4DD8-B3CD-026A8342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2ED-91E6-4674-8980-E1596911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F8C-FF94-45DB-9AC7-CA3D5831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hollergarden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0F23-B799-4128-8684-90D49519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D234-B781-4A91-91D1-49F3A281C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pages.ihug.co.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B4A-9F8E-42EC-ABF7-6D74F45F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0EA-DEB4-46A3-AF14-907ABBD0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F31-52BA-4851-9EBC-98161884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436-8B2D-4D42-9AF9-2CCBECC6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ckphoto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26C-653A-4B82-AAB6-03025890E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DD2-41E9-4DC3-A611-24CBDEAD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patensonli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868-D301-4964-961D-EDC5B6C4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kwaphotograph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82A-45FC-4E98-BE10-7AA2B05F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C3B-C987-4FF6-8A90-56731189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C51-32EF-4E57-9CDE-2A870D44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8BC7-EEB7-4435-9118-ABDC17AD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tosearch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F6B-09EB-45C4-8A04-A060C700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BFB-1A98-4B40-BD25-DCEED727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92CF-A454-4A14-8727-7D807278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484-71F6-43EF-91F7-EA5604B2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togrowbulb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322-77DA-4C98-A20B-E419A96F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3FF-8A57-4A20-8867-22552505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eal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6BF-5918-4FD6-A1E6-20EBDE56D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434-7FE9-45CF-9131-42D364D9D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C43-523E-4B5A-8D0F-4C025D63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7A19-4007-44B2-86E5-164B1302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A186-3F94-4F40-9140-43AE8AF4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o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2FF-66C6-48B8-92E3-34F63A5C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1CF-3FB0-41B2-B93A-C6B78C99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7877-28D0-47EA-B4EB-11B0D9A4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EA4-ECDA-4A13-8CD4-7CBAF3EE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80C9-FB23-4F8F-812F-1BDD47DE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7F8-C6B0-44FB-B5B7-5BF36799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F59-3806-43B1-8130-3D7E1B58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ofgardens.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A69B-117F-4425-A040-7916C80C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8E43-FDC5-4761-BA8B-7CF49D597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958-E1F1-43EE-8DC3-E7774878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D07-7325-44B0-9D68-C9256E26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0DF-5EAF-48B3-B801-16C6D2CD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979-B519-4466-879F-4E4EDCF9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B7FA-A37C-42AB-B831-8477948A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550-5925-47AA-A003-FD883B6F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3484-EE97-41D6-BC00-851BADC3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789-9C38-4865-9649-4C7C02A3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256-4CF2-4483-BDF2-EF2D314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C54-1266-479A-BB19-C0E87930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505-8BF2-4145-856C-194AC358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B23-0DF5-4AAC-93F7-E2D745E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7F9-EA38-4C0F-BB73-A7466F0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C29-F02F-4B72-8596-28F469B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BAB-525F-4361-93A6-4C175606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845-2699-4DA2-80B6-B2A4DDB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01E-A706-438B-9045-528CC88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A48-5432-46B5-8C64-B5CCBA6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BCE-8D95-4514-8138-F6E7D57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9AB-D240-4DEE-A396-0579BDFC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culture Plan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-1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www.jungleseeds.com/images/Gerbera.jpg"/>
          <p:cNvPicPr/>
          <p:nvPr/>
        </p:nvPicPr>
        <p:blipFill>
          <a:blip r:embed="rId1"/>
          <a:stretch/>
        </p:blipFill>
        <p:spPr>
          <a:xfrm>
            <a:off x="3200400" y="1828800"/>
            <a:ext cx="296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Prin &amp; El\P1050929.JPG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ansvaal daisy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:\High School\Brenda's Curriculum\Plants\Plants 2\MVC-030S.JPG"/>
          <p:cNvPicPr/>
          <p:nvPr/>
        </p:nvPicPr>
        <p:blipFill>
          <a:blip r:embed="rId1"/>
          <a:stretch/>
        </p:blipFill>
        <p:spPr>
          <a:xfrm>
            <a:off x="1523880" y="186696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orange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fuzzy textured leaves, purple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moist soil;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poiso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upload.wikimedia.org/wikipedia/commons/thumb/8/80/Gynura_aurantiaca.jpg/233px-Gynura_aurantiaca.jpg"/>
          <p:cNvPicPr/>
          <p:nvPr/>
        </p:nvPicPr>
        <p:blipFill>
          <a:blip r:embed="rId1"/>
          <a:stretch/>
        </p:blipFill>
        <p:spPr>
          <a:xfrm>
            <a:off x="2209680" y="2057400"/>
            <a:ext cx="4648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vent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 or 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, don’t over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early summer to late Autumn bloom; excellent background in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aby's breath"/>
          <p:cNvPicPr/>
          <p:nvPr/>
        </p:nvPicPr>
        <p:blipFill>
          <a:blip r:embed="rId1"/>
          <a:stretch/>
        </p:blipFill>
        <p:spPr>
          <a:xfrm>
            <a:off x="1523880" y="1981080"/>
            <a:ext cx="6188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aby's breath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:\photos\Floral Curriculum\flowers\P1050337.JPG"/>
          <p:cNvPicPr/>
          <p:nvPr/>
        </p:nvPicPr>
        <p:blipFill>
          <a:blip r:embed="rId1"/>
          <a:stretch/>
        </p:blipFill>
        <p:spPr>
          <a:xfrm>
            <a:off x="1905120" y="2209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ape jasmine, gandhar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cream, 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shrub w/ waxy white flw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8’ tall, flower 3-5”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ensitive to temp; moist atmosphere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 flowers; native to tropics and subtr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mmon 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, white, yellow, or cr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3 or 5 lobed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limbing vines; house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0-40’ if allowed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ling to upright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assets.babycenter.com/i/m/hchw/english_ivy_hchw.jpg"/>
          <p:cNvPicPr/>
          <p:nvPr/>
        </p:nvPicPr>
        <p:blipFill>
          <a:blip r:embed="rId1"/>
          <a:stretch/>
        </p:blipFill>
        <p:spPr>
          <a:xfrm>
            <a:off x="1066680" y="1828800"/>
            <a:ext cx="29545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english ivy"/>
          <p:cNvPicPr/>
          <p:nvPr/>
        </p:nvPicPr>
        <p:blipFill>
          <a:blip r:embed="rId1"/>
          <a:stretch/>
        </p:blipFill>
        <p:spPr>
          <a:xfrm>
            <a:off x="2209680" y="457200"/>
            <a:ext cx="4648320" cy="619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4"/>
          <p:cNvPicPr/>
          <p:nvPr/>
        </p:nvPicPr>
        <p:blipFill>
          <a:blip r:embed="rId1"/>
          <a:stretch/>
        </p:blipFill>
        <p:spPr>
          <a:xfrm>
            <a:off x="2286000" y="609480"/>
            <a:ext cx="4390920" cy="586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arasol plant; umbrell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 with yellow va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almat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tropical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light, mo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http://www.cloveflorist.com/store/images/flowerpics/111205/plants/PL01101LG.jpg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warf scheffleras"/>
          <p:cNvPicPr/>
          <p:nvPr/>
        </p:nvPicPr>
        <p:blipFill>
          <a:blip r:embed="rId1"/>
          <a:stretch/>
        </p:blipFill>
        <p:spPr>
          <a:xfrm>
            <a:off x="4572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"/>
          <p:cNvPicPr/>
          <p:nvPr/>
        </p:nvPicPr>
        <p:blipFill>
          <a:blip r:embed="rId1"/>
          <a:stretch/>
        </p:blipFill>
        <p:spPr>
          <a:xfrm>
            <a:off x="533520" y="1752480"/>
            <a:ext cx="3593880" cy="480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ance shaped foli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0-40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lowers last only a day; multiply quick; used in Chinese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findmeplants.co.uk/photos/hemerocallis_greenflutter.jpg"/>
          <p:cNvPicPr/>
          <p:nvPr/>
        </p:nvPicPr>
        <p:blipFill>
          <a:blip r:embed="rId1"/>
          <a:stretch/>
        </p:blipFill>
        <p:spPr>
          <a:xfrm>
            <a:off x="2209680" y="1905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upload.wikimedia.org/wikipedia/commons/0/0e/Gardenia_jasminoides_cv1.jpg"/>
          <p:cNvPicPr/>
          <p:nvPr/>
        </p:nvPicPr>
        <p:blipFill>
          <a:blip r:embed="rId1"/>
          <a:stretch/>
        </p:blipFill>
        <p:spPr>
          <a:xfrm>
            <a:off x="2743200" y="1828800"/>
            <a:ext cx="3456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aylily"/>
          <p:cNvPicPr/>
          <p:nvPr/>
        </p:nvPicPr>
        <p:blipFill>
          <a:blip r:embed="rId1"/>
          <a:stretch/>
        </p:blipFill>
        <p:spPr>
          <a:xfrm>
            <a:off x="2209680" y="22860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appl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red, orange, pink, salmon, white, &amp; multicolored var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glossy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; popular around the holiday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herry Nymph Large Double Amaryllis"/>
          <p:cNvPicPr/>
          <p:nvPr/>
        </p:nvPicPr>
        <p:blipFill>
          <a:blip r:embed="rId1"/>
          <a:stretch/>
        </p:blipFill>
        <p:spPr>
          <a:xfrm>
            <a:off x="2209680" y="2133720"/>
            <a:ext cx="3124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maryllis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1"/>
          <p:cNvPicPr/>
          <p:nvPr/>
        </p:nvPicPr>
        <p:blipFill>
          <a:blip r:embed="rId1"/>
          <a:stretch/>
        </p:blipFill>
        <p:spPr>
          <a:xfrm>
            <a:off x="609480" y="1752480"/>
            <a:ext cx="38196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from blue to green 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large clumps of green foliage and spikes of lily shaped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5-2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iltered sunlight; drie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homepages.ihug.co.nz/~rossruth/Hosta%20undualta%20albo%20marginata%20'Thomas%20Hogg'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osta 2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osta 4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osta 3"/>
          <p:cNvPicPr/>
          <p:nvPr/>
        </p:nvPicPr>
        <p:blipFill>
          <a:blip r:embed="rId1"/>
          <a:stretch/>
        </p:blipFill>
        <p:spPr>
          <a:xfrm>
            <a:off x="228600" y="1143000"/>
            <a:ext cx="4133880" cy="551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osta"/>
          <p:cNvPicPr/>
          <p:nvPr/>
        </p:nvPicPr>
        <p:blipFill>
          <a:blip r:embed="rId2"/>
          <a:stretch/>
        </p:blipFill>
        <p:spPr>
          <a:xfrm>
            <a:off x="4952880" y="1295280"/>
            <a:ext cx="4002120" cy="533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ardenia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orcelain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leaves and wax-like clusters of flowers; flower in the cluster has a star-shaped crown in it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5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don’t over water; filtered sunlight; dry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http://upload.wikimedia.org/wikipedia/commons/thumb/e/e5/Hoya_carnosa0.jpg/240px-Hoya_carnosa0.jpg"/>
          <p:cNvPicPr/>
          <p:nvPr/>
        </p:nvPicPr>
        <p:blipFill>
          <a:blip r:embed="rId1"/>
          <a:stretch/>
        </p:blipFill>
        <p:spPr>
          <a:xfrm>
            <a:off x="1371600" y="21337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wax plant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Roman hyacinth, french hyac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, white, yellow, pink,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medium green leaves which appear slightly folded; blooms are trumpet-shaped and arranged tightly on leafless s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to medium high light; watered tho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http://www.istockphoto.com/file_thumbview_approve/6268362/2/istockphoto_6268362-hyacinth.jpg"/>
          <p:cNvPicPr/>
          <p:nvPr/>
        </p:nvPicPr>
        <p:blipFill>
          <a:blip r:embed="rId1"/>
          <a:stretch/>
        </p:blipFill>
        <p:spPr>
          <a:xfrm>
            <a:off x="2743200" y="2209680"/>
            <a:ext cx="28195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:\photos\Floral Curriculum\flowers\P1050752.JPG"/>
          <p:cNvPicPr/>
          <p:nvPr/>
        </p:nvPicPr>
        <p:blipFill>
          <a:blip r:embed="rId1"/>
          <a:stretch/>
        </p:blipFill>
        <p:spPr>
          <a:xfrm>
            <a:off x="43434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acid soil blooms-blue, in alkaline soil-pink flowers, neutral-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medium to dark green leav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flowering houseplant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abundance of water; partial to full sun; very rich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http://www.akwaphotographs.com/images/Hydrangea%20blue-big.jp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ydrangea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F:\photos\Floral Curriculum\flowers\P1050255.JPG"/>
          <p:cNvPicPr/>
          <p:nvPr/>
        </p:nvPicPr>
        <p:blipFill>
          <a:blip r:embed="rId1"/>
          <a:stretch/>
        </p:blipFill>
        <p:spPr>
          <a:xfrm>
            <a:off x="1752480" y="17715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owy, irregular funnel-shaped flowers; sword- shaped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6-4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180 different species; native to southern Africa and Mediterrane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 bedding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8-1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very sh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http://www.fotosearch.com/comp/DSN/DSN020/impatiens_~1802745.jpg"/>
          <p:cNvPicPr/>
          <p:nvPr/>
        </p:nvPicPr>
        <p:blipFill>
          <a:blip r:embed="rId1"/>
          <a:stretch/>
        </p:blipFill>
        <p:spPr>
          <a:xfrm>
            <a:off x="2057400" y="1981080"/>
            <a:ext cx="499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patients"/>
          <p:cNvPicPr/>
          <p:nvPr/>
        </p:nvPicPr>
        <p:blipFill>
          <a:blip r:embed="rId1"/>
          <a:stretch/>
        </p:blipFill>
        <p:spPr>
          <a:xfrm>
            <a:off x="18288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s to whites to reds almost any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Big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4-6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an grow in Desert, swamps, cold, an d Temperate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https://home.comcast.net/~j.komatsu/images/set1/iris2.jpg"/>
          <p:cNvPicPr/>
          <p:nvPr/>
        </p:nvPicPr>
        <p:blipFill>
          <a:blip r:embed="rId1"/>
          <a:stretch/>
        </p:blipFill>
        <p:spPr>
          <a:xfrm>
            <a:off x="2057400" y="1828800"/>
            <a:ext cx="3571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rple blue beard top"/>
          <p:cNvPicPr/>
          <p:nvPr/>
        </p:nvPicPr>
        <p:blipFill>
          <a:blip r:embed="rId1"/>
          <a:stretch/>
        </p:blipFill>
        <p:spPr>
          <a:xfrm>
            <a:off x="1828800" y="20574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Grows up to three fee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native to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easytogrowbulbs.com/ProductImages/iris/Dutch_Iris_Telstar.jpg"/>
          <p:cNvPicPr/>
          <p:nvPr/>
        </p:nvPicPr>
        <p:blipFill>
          <a:blip r:embed="rId1"/>
          <a:stretch/>
        </p:blipFill>
        <p:spPr>
          <a:xfrm>
            <a:off x="1143000" y="2057400"/>
            <a:ext cx="6553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lue iris line"/>
          <p:cNvPicPr/>
          <p:nvPr/>
        </p:nvPicPr>
        <p:blipFill>
          <a:blip r:embed="rId1"/>
          <a:stretch/>
        </p:blipFill>
        <p:spPr>
          <a:xfrm>
            <a:off x="228600" y="1655640"/>
            <a:ext cx="3902040" cy="520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:\photos\Floral Curriculum\flowers\P1050725.JPG"/>
          <p:cNvPicPr/>
          <p:nvPr/>
        </p:nvPicPr>
        <p:blipFill>
          <a:blip r:embed="rId1"/>
          <a:stretch/>
        </p:blipFill>
        <p:spPr>
          <a:xfrm>
            <a:off x="457200" y="182880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:\photos\Floral Curriculum\plants\P1050575.JPG"/>
          <p:cNvPicPr/>
          <p:nvPr/>
        </p:nvPicPr>
        <p:blipFill>
          <a:blip r:embed="rId2"/>
          <a:stretch/>
        </p:blipFill>
        <p:spPr>
          <a:xfrm>
            <a:off x="4343400" y="22860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www.boreal.org/~dasche/birchgrove/fundraising/bulbs/glads.jpg"/>
          <p:cNvPicPr/>
          <p:nvPr/>
        </p:nvPicPr>
        <p:blipFill>
          <a:blip r:embed="rId1"/>
          <a:stretch/>
        </p:blipFill>
        <p:spPr>
          <a:xfrm>
            <a:off x="2895480" y="1905120"/>
            <a:ext cx="3810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pink,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ttp://www.toptropicals.com/pics/garden/m1/Podarki2/Beloperone_guttata134608klara.jpg"/>
          <p:cNvPicPr/>
          <p:nvPr/>
        </p:nvPicPr>
        <p:blipFill>
          <a:blip r:embed="rId1"/>
          <a:stretch/>
        </p:blipFill>
        <p:spPr>
          <a:xfrm>
            <a:off x="2514600" y="1828800"/>
            <a:ext cx="36766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ucculent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1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ly water when soil feels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ttp://upload.wikimedia.org/wikipedia/commons/b/b7/2007-03-19Kalanchoe_blossfeldiana02.jpg"/>
          <p:cNvPicPr/>
          <p:nvPr/>
        </p:nvPicPr>
        <p:blipFill>
          <a:blip r:embed="rId1"/>
          <a:stretch/>
        </p:blipFill>
        <p:spPr>
          <a:xfrm>
            <a:off x="2590920" y="2131920"/>
            <a:ext cx="42289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kalanchoe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:\High School\Brenda's Curriculum\Plants\Plants 1\MVC-010S.JPG"/>
          <p:cNvPicPr/>
          <p:nvPr/>
        </p:nvPicPr>
        <p:blipFill>
          <a:blip r:embed="rId1"/>
          <a:stretch/>
        </p:blipFill>
        <p:spPr>
          <a:xfrm>
            <a:off x="1879560" y="177156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round-headed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blazing S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Other:  native wild flower of North Dak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used for medicine and food for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upload.wikimedia.org/wikipedia/commons/thumb/d/d4/Liatris_spicata_Purple.jpg/200px-Liatris_spicata_Purple.jpg"/>
          <p:cNvPicPr/>
          <p:nvPr/>
        </p:nvPicPr>
        <p:blipFill>
          <a:blip r:embed="rId1"/>
          <a:stretch/>
        </p:blipFill>
        <p:spPr>
          <a:xfrm>
            <a:off x="2666880" y="1981080"/>
            <a:ext cx="3276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liatris"/>
          <p:cNvPicPr/>
          <p:nvPr/>
        </p:nvPicPr>
        <p:blipFill>
          <a:blip r:embed="rId1"/>
          <a:stretch/>
        </p:blipFill>
        <p:spPr>
          <a:xfrm>
            <a:off x="266688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:\photos\Floral Curriculum\flowers\P1050741.JPG"/>
          <p:cNvPicPr/>
          <p:nvPr/>
        </p:nvPicPr>
        <p:blipFill>
          <a:blip r:embed="rId1"/>
          <a:stretch/>
        </p:blipFill>
        <p:spPr>
          <a:xfrm>
            <a:off x="2781360" y="17524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:\photos\Floral Curriculum\flowers\P1050745.JPG"/>
          <p:cNvPicPr/>
          <p:nvPr/>
        </p:nvPicPr>
        <p:blipFill>
          <a:blip r:embed="rId1"/>
          <a:stretch/>
        </p:blipFill>
        <p:spPr>
          <a:xfrm>
            <a:off x="2838600" y="17524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etals are a trumpet like formation that are long &amp; white; leaves are green slender and layer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3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http://content.answers.com/main/content/wp/en-commons/thumb/0/0a/240px-Lilium_longiflorum.jpg"/>
          <p:cNvPicPr/>
          <p:nvPr/>
        </p:nvPicPr>
        <p:blipFill>
          <a:blip r:embed="rId1"/>
          <a:stretch/>
        </p:blipFill>
        <p:spPr>
          <a:xfrm>
            <a:off x="2362320" y="1905120"/>
            <a:ext cx="33526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petals are long and have a variety of colors with some colored spots; leaves are green, narrow, long, &amp; layered upwar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water r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hybrid--crossed pollinated w/other l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http://www.worldofgardens.ca/images/Pict0042_AS_CORRIDA_01.JPG"/>
          <p:cNvPicPr/>
          <p:nvPr/>
        </p:nvPicPr>
        <p:blipFill>
          <a:blip r:embed="rId1"/>
          <a:stretch/>
        </p:blipFill>
        <p:spPr>
          <a:xfrm>
            <a:off x="1504800" y="1828800"/>
            <a:ext cx="3467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asiatic lily"/>
          <p:cNvPicPr/>
          <p:nvPr/>
        </p:nvPicPr>
        <p:blipFill>
          <a:blip r:embed="rId1"/>
          <a:stretch/>
        </p:blipFill>
        <p:spPr>
          <a:xfrm>
            <a:off x="1219320" y="17715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:\photos\Floral Curriculum\flowers\P1050760.JPG"/>
          <p:cNvPicPr/>
          <p:nvPr/>
        </p:nvPicPr>
        <p:blipFill>
          <a:blip r:embed="rId1"/>
          <a:stretch/>
        </p:blipFill>
        <p:spPr>
          <a:xfrm>
            <a:off x="2362320" y="2057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olden, lemon-yellow, white, cream, salmon-pink purple, &amp;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structure is oblong &amp; deeply w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mall flowers used in dried arr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http://upload.wikimedia.org/wikipedia/commons/a/af/Limonium_sinuatum_01_ies.jpg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F:\photos\Floral Curriculum\flowers\P1050310.JPG"/>
          <p:cNvPicPr/>
          <p:nvPr/>
        </p:nvPicPr>
        <p:blipFill>
          <a:blip r:embed="rId1"/>
          <a:stretch/>
        </p:blipFill>
        <p:spPr>
          <a:xfrm>
            <a:off x="1752480" y="182880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lilac, pink, and vio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like structure is low, rounded, compact habit with lance shaped grayish green leaves; ball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elf seeding an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under 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;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:\High School\Brenda's Curriculum\Plants\Plants 2\MVC-029S.JPG"/>
          <p:cNvPicPr/>
          <p:nvPr/>
        </p:nvPicPr>
        <p:blipFill>
          <a:blip r:embed="rId1"/>
          <a:stretch/>
        </p:blipFill>
        <p:spPr>
          <a:xfrm>
            <a:off x="3048120" y="2031840"/>
            <a:ext cx="3047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upload.wikimedia.org/wikipedia/commons/8/8b/Alyssum_(Lobularia_maritima).jpg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F:\Plant ID\P1060384.JPG"/>
          <p:cNvPicPr/>
          <p:nvPr/>
        </p:nvPicPr>
        <p:blipFill>
          <a:blip r:embed="rId1"/>
          <a:stretch/>
        </p:blipFill>
        <p:spPr>
          <a:xfrm>
            <a:off x="2286000" y="19051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erbera daisy; g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dark green leaves with                                              tall 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full sun light; moist Acid well-drained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15:15Z</dcterms:created>
  <dc:creator>Snake River</dc:creator>
  <dc:description/>
  <dc:language>en-US</dc:language>
  <cp:lastModifiedBy>Debra Rumford</cp:lastModifiedBy>
  <dcterms:modified xsi:type="dcterms:W3CDTF">2015-09-03T22:17:56Z</dcterms:modified>
  <cp:revision>103</cp:revision>
  <dc:subject/>
  <dc:title>ID</dc:title>
</cp:coreProperties>
</file>