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E9B6-8BBD-4E1C-A4A0-32298DA3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gleseed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6F7-16D5-496C-ACDE-61DB065F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B79-0BD6-40A4-BF4B-F4E82351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5EE-ED94-4FB3-936C-0E954185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6B0D-970A-4DFB-85B3-ABE37B0B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ssomswa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63D-1A05-487E-B124-48B99FA0A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EF9-B590-4EE6-B556-2CADF9B7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16D-4E31-43F4-BAC6-1B53D04E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F92-49F2-4F4B-A7BD-4EBB832B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ts.babycenter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419-FE2D-43B9-802B-A6142436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.wikipeid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CCB-BE61-4F5E-98BE-95018D28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vefloris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1E57-2D4C-4653-B758-2105D0A9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ridat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185-1879-4758-9A2D-4DE8AAD6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meplants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F11-C761-442A-8902-2A51CFD70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B93-D5DB-4C98-BA03-058D1AC7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2615-922C-498B-8071-96CC8D72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hollergarden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6121-DADD-4882-9A85-8CE09089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3B5E-DD32-462A-975C-98C11898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pages.ihug.co.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42EF-551B-4F8F-82EE-F15490C9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398-2DC0-44F1-8986-D154B4F1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7A2-B97F-41E2-93C6-119C9ABF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677A-B11A-40F8-86E8-03B8DD07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ckphoto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CFB-4779-432C-9BF4-A305D2FF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E84-81F6-4E8F-932E-051D6C78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patensonli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092-A977-44AA-85D6-797829CA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kwaphotograph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1E6-663B-4D16-93AE-67A447B8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16B-9B4A-4C30-9C71-BD7667A7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C5BE-8A9F-4249-9A11-68EB116C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DC1-2F52-473B-B718-DBF4E26B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tosearch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E2D-23D6-4F6F-A5EE-028A8A81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0B6-FABA-4D50-8BC8-1AED9551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A95A-81C9-4885-A5B5-DF48A61E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589-7C4F-4376-BE01-7C9F75EB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togrowbulb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73B7-BAFA-46EC-9A88-70CEFCB0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95D-456A-49E1-96FA-5508156D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eal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C674-0A6D-41E7-BF72-AE26B548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C51E-D752-47B2-B511-4CFD5609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D2B-9E49-4640-9739-D1CCC84A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DE4-FB4F-4A56-9BD7-69EAA663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459-5156-4FEC-9AC5-E2BFF1D9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o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3FCD-4F98-4A1A-AD57-2B0D5C2C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685-79F2-42FF-8B46-DDAD50E5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A27-F2BD-4660-83C7-C1FCDD59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9DC-2710-4C6A-A10F-948BC9C9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15D-31DC-494C-B967-26ED4520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7942-C75F-4F27-BC6D-4185B331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2979-BB55-4924-AB71-44BCC024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ofgardens.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B7A-2646-447E-9A17-81EB946C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F79-7C93-472D-A0D5-D30EB6D9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CAA-B1E9-4A01-BFEB-BABB98DF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814-C223-42C2-9D38-1AB024FB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78F-E36D-489E-8E4F-25FC726B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DA1-7913-4CDE-B963-97FFABA9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0DE0-BEE1-4D29-8D8A-CFB4481B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FEDB-B789-438D-BA8F-6FE46DBA9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64B4-0675-4A98-ABAA-730BB54D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4B0-D803-4D6F-A482-7336E6E4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77B-78B3-4F86-8A58-66E959C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12C-3010-4D33-9461-ED1A736D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FA0-88B0-476F-B157-9DA6D9D7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10A-F417-4A1B-93CF-D4C1D9C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524-ED04-4641-BE0A-0E8A430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234-D23E-4625-8827-99312B9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249-1F42-43CA-AF8A-B2FBD77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911-EEEE-4718-BBCA-C9E9BE7B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14-2507-4DF9-BF51-0B03F96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980-37D2-44DE-BB31-4D1D7E6C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F2C-83A0-45A8-B118-0643E7D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560-241B-40A8-B441-13C2E7A6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culture Plan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-1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www.jungleseeds.com/images/Gerbera.jpg"/>
          <p:cNvPicPr/>
          <p:nvPr/>
        </p:nvPicPr>
        <p:blipFill>
          <a:blip r:embed="rId1"/>
          <a:stretch/>
        </p:blipFill>
        <p:spPr>
          <a:xfrm>
            <a:off x="3200400" y="1828800"/>
            <a:ext cx="296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Prin &amp; El\P1050929.JPG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ansvaal daisy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:\High School\Brenda's Curriculum\Plants\Plants 2\MVC-030S.JPG"/>
          <p:cNvPicPr/>
          <p:nvPr/>
        </p:nvPicPr>
        <p:blipFill>
          <a:blip r:embed="rId1"/>
          <a:stretch/>
        </p:blipFill>
        <p:spPr>
          <a:xfrm>
            <a:off x="1523880" y="186696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orange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fuzzy textured leaves, purple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moist soil;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poiso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upload.wikimedia.org/wikipedia/commons/thumb/8/80/Gynura_aurantiaca.jpg/233px-Gynura_aurantiaca.jpg"/>
          <p:cNvPicPr/>
          <p:nvPr/>
        </p:nvPicPr>
        <p:blipFill>
          <a:blip r:embed="rId1"/>
          <a:stretch/>
        </p:blipFill>
        <p:spPr>
          <a:xfrm>
            <a:off x="2209680" y="2057400"/>
            <a:ext cx="4648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vent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 or 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, don’t over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early summer to late Autumn bloom; excellent background in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aby's breath"/>
          <p:cNvPicPr/>
          <p:nvPr/>
        </p:nvPicPr>
        <p:blipFill>
          <a:blip r:embed="rId1"/>
          <a:stretch/>
        </p:blipFill>
        <p:spPr>
          <a:xfrm>
            <a:off x="1523880" y="1981080"/>
            <a:ext cx="6188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aby's breath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:\photos\Floral Curriculum\flowers\P1050337.JPG"/>
          <p:cNvPicPr/>
          <p:nvPr/>
        </p:nvPicPr>
        <p:blipFill>
          <a:blip r:embed="rId1"/>
          <a:stretch/>
        </p:blipFill>
        <p:spPr>
          <a:xfrm>
            <a:off x="1905120" y="2209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ape jasmine, gandhar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cream, 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shrub w/ waxy white flw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8’ tall, flower 3-5”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ensitive to temp; moist atmosphere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 flowers; native to tropics and subtr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mmon 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, white, yellow, or cr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3 or 5 lobed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limbing vines; house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0-40’ if allowed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ling to upright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assets.babycenter.com/i/m/hchw/english_ivy_hchw.jpg"/>
          <p:cNvPicPr/>
          <p:nvPr/>
        </p:nvPicPr>
        <p:blipFill>
          <a:blip r:embed="rId1"/>
          <a:stretch/>
        </p:blipFill>
        <p:spPr>
          <a:xfrm>
            <a:off x="1066680" y="1828800"/>
            <a:ext cx="29545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english ivy"/>
          <p:cNvPicPr/>
          <p:nvPr/>
        </p:nvPicPr>
        <p:blipFill>
          <a:blip r:embed="rId1"/>
          <a:stretch/>
        </p:blipFill>
        <p:spPr>
          <a:xfrm>
            <a:off x="2209680" y="457200"/>
            <a:ext cx="4648320" cy="619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4"/>
          <p:cNvPicPr/>
          <p:nvPr/>
        </p:nvPicPr>
        <p:blipFill>
          <a:blip r:embed="rId1"/>
          <a:stretch/>
        </p:blipFill>
        <p:spPr>
          <a:xfrm>
            <a:off x="2286000" y="609480"/>
            <a:ext cx="4390920" cy="586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arasol plant; umbrell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 with yellow va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almat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tropical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light, mo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http://www.cloveflorist.com/store/images/flowerpics/111205/plants/PL01101LG.jpg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warf scheffleras"/>
          <p:cNvPicPr/>
          <p:nvPr/>
        </p:nvPicPr>
        <p:blipFill>
          <a:blip r:embed="rId1"/>
          <a:stretch/>
        </p:blipFill>
        <p:spPr>
          <a:xfrm>
            <a:off x="4572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"/>
          <p:cNvPicPr/>
          <p:nvPr/>
        </p:nvPicPr>
        <p:blipFill>
          <a:blip r:embed="rId1"/>
          <a:stretch/>
        </p:blipFill>
        <p:spPr>
          <a:xfrm>
            <a:off x="533520" y="1752480"/>
            <a:ext cx="3593880" cy="480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ance shaped foli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0-40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lowers last only a day; multiply quick; used in Chinese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findmeplants.co.uk/photos/hemerocallis_greenflutter.jpg"/>
          <p:cNvPicPr/>
          <p:nvPr/>
        </p:nvPicPr>
        <p:blipFill>
          <a:blip r:embed="rId1"/>
          <a:stretch/>
        </p:blipFill>
        <p:spPr>
          <a:xfrm>
            <a:off x="2209680" y="1905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upload.wikimedia.org/wikipedia/commons/0/0e/Gardenia_jasminoides_cv1.jpg"/>
          <p:cNvPicPr/>
          <p:nvPr/>
        </p:nvPicPr>
        <p:blipFill>
          <a:blip r:embed="rId1"/>
          <a:stretch/>
        </p:blipFill>
        <p:spPr>
          <a:xfrm>
            <a:off x="2743200" y="1828800"/>
            <a:ext cx="3456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aylily"/>
          <p:cNvPicPr/>
          <p:nvPr/>
        </p:nvPicPr>
        <p:blipFill>
          <a:blip r:embed="rId1"/>
          <a:stretch/>
        </p:blipFill>
        <p:spPr>
          <a:xfrm>
            <a:off x="2209680" y="22860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appl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red, orange, pink, salmon, white, &amp; multicolored var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glossy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; popular around the holiday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herry Nymph Large Double Amaryllis"/>
          <p:cNvPicPr/>
          <p:nvPr/>
        </p:nvPicPr>
        <p:blipFill>
          <a:blip r:embed="rId1"/>
          <a:stretch/>
        </p:blipFill>
        <p:spPr>
          <a:xfrm>
            <a:off x="2209680" y="2133720"/>
            <a:ext cx="3124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maryllis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1"/>
          <p:cNvPicPr/>
          <p:nvPr/>
        </p:nvPicPr>
        <p:blipFill>
          <a:blip r:embed="rId1"/>
          <a:stretch/>
        </p:blipFill>
        <p:spPr>
          <a:xfrm>
            <a:off x="609480" y="1752480"/>
            <a:ext cx="38196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from blue to green 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large clumps of green foliage and spikes of lily shaped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5-2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iltered sunlight; drie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homepages.ihug.co.nz/~rossruth/Hosta%20undualta%20albo%20marginata%20'Thomas%20Hogg'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osta 2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osta 4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osta 3"/>
          <p:cNvPicPr/>
          <p:nvPr/>
        </p:nvPicPr>
        <p:blipFill>
          <a:blip r:embed="rId1"/>
          <a:stretch/>
        </p:blipFill>
        <p:spPr>
          <a:xfrm>
            <a:off x="228600" y="1143000"/>
            <a:ext cx="4133880" cy="551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osta"/>
          <p:cNvPicPr/>
          <p:nvPr/>
        </p:nvPicPr>
        <p:blipFill>
          <a:blip r:embed="rId2"/>
          <a:stretch/>
        </p:blipFill>
        <p:spPr>
          <a:xfrm>
            <a:off x="4952880" y="1295280"/>
            <a:ext cx="4002120" cy="533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ardenia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orcelain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leaves and wax-like clusters of flowers; flower in the cluster has a star-shaped crown in it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5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don’t over water; filtered sunlight; dry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http://upload.wikimedia.org/wikipedia/commons/thumb/e/e5/Hoya_carnosa0.jpg/240px-Hoya_carnosa0.jpg"/>
          <p:cNvPicPr/>
          <p:nvPr/>
        </p:nvPicPr>
        <p:blipFill>
          <a:blip r:embed="rId1"/>
          <a:stretch/>
        </p:blipFill>
        <p:spPr>
          <a:xfrm>
            <a:off x="1371600" y="21337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wax plant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Roman hyacinth, french hyac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, white, yellow, pink,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medium green leaves which appear slightly folded; blooms are trumpet-shaped and arranged tightly on leafless s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to medium high light; watered tho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http://www.istockphoto.com/file_thumbview_approve/6268362/2/istockphoto_6268362-hyacinth.jpg"/>
          <p:cNvPicPr/>
          <p:nvPr/>
        </p:nvPicPr>
        <p:blipFill>
          <a:blip r:embed="rId1"/>
          <a:stretch/>
        </p:blipFill>
        <p:spPr>
          <a:xfrm>
            <a:off x="2743200" y="2209680"/>
            <a:ext cx="28195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:\photos\Floral Curriculum\flowers\P1050752.JPG"/>
          <p:cNvPicPr/>
          <p:nvPr/>
        </p:nvPicPr>
        <p:blipFill>
          <a:blip r:embed="rId1"/>
          <a:stretch/>
        </p:blipFill>
        <p:spPr>
          <a:xfrm>
            <a:off x="43434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acid soil blooms-blue, in alkaline soil-pink flowers, neutral-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medium to dark green leav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flowering houseplant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abundance of water; partial to full sun; very rich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http://www.akwaphotographs.com/images/Hydrangea%20blue-big.jp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ydrangea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F:\photos\Floral Curriculum\flowers\P1050255.JPG"/>
          <p:cNvPicPr/>
          <p:nvPr/>
        </p:nvPicPr>
        <p:blipFill>
          <a:blip r:embed="rId1"/>
          <a:stretch/>
        </p:blipFill>
        <p:spPr>
          <a:xfrm>
            <a:off x="1752480" y="17715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owy, irregular funnel-shaped flowers; sword- shaped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6-4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180 different species; native to southern Africa and Mediterrane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 bedding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8-1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very sh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http://www.fotosearch.com/comp/DSN/DSN020/impatiens_~1802745.jpg"/>
          <p:cNvPicPr/>
          <p:nvPr/>
        </p:nvPicPr>
        <p:blipFill>
          <a:blip r:embed="rId1"/>
          <a:stretch/>
        </p:blipFill>
        <p:spPr>
          <a:xfrm>
            <a:off x="2057400" y="1981080"/>
            <a:ext cx="499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patients"/>
          <p:cNvPicPr/>
          <p:nvPr/>
        </p:nvPicPr>
        <p:blipFill>
          <a:blip r:embed="rId1"/>
          <a:stretch/>
        </p:blipFill>
        <p:spPr>
          <a:xfrm>
            <a:off x="18288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s to whites to reds almost any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Big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4-6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an grow in Desert, swamps, cold, an d Temperate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https://home.comcast.net/~j.komatsu/images/set1/iris2.jpg"/>
          <p:cNvPicPr/>
          <p:nvPr/>
        </p:nvPicPr>
        <p:blipFill>
          <a:blip r:embed="rId1"/>
          <a:stretch/>
        </p:blipFill>
        <p:spPr>
          <a:xfrm>
            <a:off x="2057400" y="1828800"/>
            <a:ext cx="3571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rple blue beard top"/>
          <p:cNvPicPr/>
          <p:nvPr/>
        </p:nvPicPr>
        <p:blipFill>
          <a:blip r:embed="rId1"/>
          <a:stretch/>
        </p:blipFill>
        <p:spPr>
          <a:xfrm>
            <a:off x="1828800" y="20574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Grows up to three fee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native to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easytogrowbulbs.com/ProductImages/iris/Dutch_Iris_Telstar.jpg"/>
          <p:cNvPicPr/>
          <p:nvPr/>
        </p:nvPicPr>
        <p:blipFill>
          <a:blip r:embed="rId1"/>
          <a:stretch/>
        </p:blipFill>
        <p:spPr>
          <a:xfrm>
            <a:off x="1143000" y="2057400"/>
            <a:ext cx="6553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lue iris line"/>
          <p:cNvPicPr/>
          <p:nvPr/>
        </p:nvPicPr>
        <p:blipFill>
          <a:blip r:embed="rId1"/>
          <a:stretch/>
        </p:blipFill>
        <p:spPr>
          <a:xfrm>
            <a:off x="228600" y="1655640"/>
            <a:ext cx="3902040" cy="520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:\photos\Floral Curriculum\flowers\P1050725.JPG"/>
          <p:cNvPicPr/>
          <p:nvPr/>
        </p:nvPicPr>
        <p:blipFill>
          <a:blip r:embed="rId1"/>
          <a:stretch/>
        </p:blipFill>
        <p:spPr>
          <a:xfrm>
            <a:off x="457200" y="182880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:\photos\Floral Curriculum\plants\P1050575.JPG"/>
          <p:cNvPicPr/>
          <p:nvPr/>
        </p:nvPicPr>
        <p:blipFill>
          <a:blip r:embed="rId2"/>
          <a:stretch/>
        </p:blipFill>
        <p:spPr>
          <a:xfrm>
            <a:off x="4343400" y="22860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www.boreal.org/~dasche/birchgrove/fundraising/bulbs/glads.jpg"/>
          <p:cNvPicPr/>
          <p:nvPr/>
        </p:nvPicPr>
        <p:blipFill>
          <a:blip r:embed="rId1"/>
          <a:stretch/>
        </p:blipFill>
        <p:spPr>
          <a:xfrm>
            <a:off x="2895480" y="1905120"/>
            <a:ext cx="3810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pink,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ttp://www.toptropicals.com/pics/garden/m1/Podarki2/Beloperone_guttata134608klara.jpg"/>
          <p:cNvPicPr/>
          <p:nvPr/>
        </p:nvPicPr>
        <p:blipFill>
          <a:blip r:embed="rId1"/>
          <a:stretch/>
        </p:blipFill>
        <p:spPr>
          <a:xfrm>
            <a:off x="2514600" y="1828800"/>
            <a:ext cx="36766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ucculent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1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ly water when soil feels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ttp://upload.wikimedia.org/wikipedia/commons/b/b7/2007-03-19Kalanchoe_blossfeldiana02.jpg"/>
          <p:cNvPicPr/>
          <p:nvPr/>
        </p:nvPicPr>
        <p:blipFill>
          <a:blip r:embed="rId1"/>
          <a:stretch/>
        </p:blipFill>
        <p:spPr>
          <a:xfrm>
            <a:off x="2590920" y="2131920"/>
            <a:ext cx="42289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kalanchoe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:\High School\Brenda's Curriculum\Plants\Plants 1\MVC-010S.JPG"/>
          <p:cNvPicPr/>
          <p:nvPr/>
        </p:nvPicPr>
        <p:blipFill>
          <a:blip r:embed="rId1"/>
          <a:stretch/>
        </p:blipFill>
        <p:spPr>
          <a:xfrm>
            <a:off x="1879560" y="177156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round-headed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blazing S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Other:  native wild flower of North Dak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used for medicine and food for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upload.wikimedia.org/wikipedia/commons/thumb/d/d4/Liatris_spicata_Purple.jpg/200px-Liatris_spicata_Purple.jpg"/>
          <p:cNvPicPr/>
          <p:nvPr/>
        </p:nvPicPr>
        <p:blipFill>
          <a:blip r:embed="rId1"/>
          <a:stretch/>
        </p:blipFill>
        <p:spPr>
          <a:xfrm>
            <a:off x="2666880" y="1981080"/>
            <a:ext cx="3276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liatris"/>
          <p:cNvPicPr/>
          <p:nvPr/>
        </p:nvPicPr>
        <p:blipFill>
          <a:blip r:embed="rId1"/>
          <a:stretch/>
        </p:blipFill>
        <p:spPr>
          <a:xfrm>
            <a:off x="266688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:\photos\Floral Curriculum\flowers\P1050741.JPG"/>
          <p:cNvPicPr/>
          <p:nvPr/>
        </p:nvPicPr>
        <p:blipFill>
          <a:blip r:embed="rId1"/>
          <a:stretch/>
        </p:blipFill>
        <p:spPr>
          <a:xfrm>
            <a:off x="2781360" y="17524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:\photos\Floral Curriculum\flowers\P1050745.JPG"/>
          <p:cNvPicPr/>
          <p:nvPr/>
        </p:nvPicPr>
        <p:blipFill>
          <a:blip r:embed="rId1"/>
          <a:stretch/>
        </p:blipFill>
        <p:spPr>
          <a:xfrm>
            <a:off x="2838600" y="17524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etals are a trumpet like formation that are long &amp; white; leaves are green slender and layer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3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http://content.answers.com/main/content/wp/en-commons/thumb/0/0a/240px-Lilium_longiflorum.jpg"/>
          <p:cNvPicPr/>
          <p:nvPr/>
        </p:nvPicPr>
        <p:blipFill>
          <a:blip r:embed="rId1"/>
          <a:stretch/>
        </p:blipFill>
        <p:spPr>
          <a:xfrm>
            <a:off x="2362320" y="1905120"/>
            <a:ext cx="33526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petals are long and have a variety of colors with some colored spots; leaves are green, narrow, long, &amp; layered upwar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water r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hybrid--crossed pollinated w/other l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http://www.worldofgardens.ca/images/Pict0042_AS_CORRIDA_01.JPG"/>
          <p:cNvPicPr/>
          <p:nvPr/>
        </p:nvPicPr>
        <p:blipFill>
          <a:blip r:embed="rId1"/>
          <a:stretch/>
        </p:blipFill>
        <p:spPr>
          <a:xfrm>
            <a:off x="1504800" y="1828800"/>
            <a:ext cx="3467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asiatic lily"/>
          <p:cNvPicPr/>
          <p:nvPr/>
        </p:nvPicPr>
        <p:blipFill>
          <a:blip r:embed="rId1"/>
          <a:stretch/>
        </p:blipFill>
        <p:spPr>
          <a:xfrm>
            <a:off x="1219320" y="17715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:\photos\Floral Curriculum\flowers\P1050760.JPG"/>
          <p:cNvPicPr/>
          <p:nvPr/>
        </p:nvPicPr>
        <p:blipFill>
          <a:blip r:embed="rId1"/>
          <a:stretch/>
        </p:blipFill>
        <p:spPr>
          <a:xfrm>
            <a:off x="2362320" y="2057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olden, lemon-yellow, white, cream, salmon-pink purple, &amp;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structure is oblong &amp; deeply w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mall flowers used in dried arr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http://upload.wikimedia.org/wikipedia/commons/a/af/Limonium_sinuatum_01_ies.jpg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F:\photos\Floral Curriculum\flowers\P1050310.JPG"/>
          <p:cNvPicPr/>
          <p:nvPr/>
        </p:nvPicPr>
        <p:blipFill>
          <a:blip r:embed="rId1"/>
          <a:stretch/>
        </p:blipFill>
        <p:spPr>
          <a:xfrm>
            <a:off x="1752480" y="182880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lilac, pink, and vio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like structure is low, rounded, compact habit with lance shaped grayish green leaves; ball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elf seeding an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under 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;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:\High School\Brenda's Curriculum\Plants\Plants 2\MVC-029S.JPG"/>
          <p:cNvPicPr/>
          <p:nvPr/>
        </p:nvPicPr>
        <p:blipFill>
          <a:blip r:embed="rId1"/>
          <a:stretch/>
        </p:blipFill>
        <p:spPr>
          <a:xfrm>
            <a:off x="3048120" y="2031840"/>
            <a:ext cx="3047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upload.wikimedia.org/wikipedia/commons/8/8b/Alyssum_(Lobularia_maritima).jpg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F:\Plant ID\P1060384.JPG"/>
          <p:cNvPicPr/>
          <p:nvPr/>
        </p:nvPicPr>
        <p:blipFill>
          <a:blip r:embed="rId1"/>
          <a:stretch/>
        </p:blipFill>
        <p:spPr>
          <a:xfrm>
            <a:off x="2286000" y="19051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erbera daisy; g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dark green leaves with                                              tall 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full sun light; moist Acid well-drained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15:15Z</dcterms:created>
  <dc:creator>Snake River</dc:creator>
  <dc:description/>
  <dc:language>en-US</dc:language>
  <cp:lastModifiedBy>Debra Rumford</cp:lastModifiedBy>
  <dcterms:modified xsi:type="dcterms:W3CDTF">2015-09-03T22:17:56Z</dcterms:modified>
  <cp:revision>103</cp:revision>
  <dc:subject/>
  <dc:title>ID</dc:title>
</cp:coreProperties>
</file>